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body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1130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2260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339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69720" y="5789520"/>
            <a:ext cx="10464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8000" spc="-1" strike="noStrike">
                <a:solidFill>
                  <a:srgbClr val="133c73"/>
                </a:solidFill>
                <a:latin typeface="Times New Roman"/>
                <a:ea typeface="Times New Roman"/>
              </a:rPr>
              <a:t>Problem based learning</a:t>
            </a:r>
            <a:br>
              <a:rPr sz="8000"/>
            </a:br>
            <a:r>
              <a:rPr b="1" lang="en-US" sz="8000" spc="-1" strike="noStrike">
                <a:solidFill>
                  <a:srgbClr val="133c73"/>
                </a:solidFill>
                <a:latin typeface="Times New Roman"/>
                <a:ea typeface="Times New Roman"/>
              </a:rPr>
              <a:t>Vs</a:t>
            </a:r>
            <a:br>
              <a:rPr sz="8000"/>
            </a:br>
            <a:r>
              <a:rPr b="1" lang="en-US" sz="8000" spc="-1" strike="noStrike">
                <a:solidFill>
                  <a:srgbClr val="133c73"/>
                </a:solidFill>
                <a:latin typeface="Times New Roman"/>
                <a:ea typeface="Times New Roman"/>
              </a:rPr>
              <a:t>Multiple intelligence theory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2" name="InsertedImage.jpg" descr=""/>
          <p:cNvPicPr/>
          <p:nvPr/>
        </p:nvPicPr>
        <p:blipFill>
          <a:blip r:embed="rId1"/>
          <a:stretch/>
        </p:blipFill>
        <p:spPr>
          <a:xfrm>
            <a:off x="7108920" y="1452600"/>
            <a:ext cx="43290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nsertedImage.jpg" descr=""/>
          <p:cNvPicPr/>
          <p:nvPr/>
        </p:nvPicPr>
        <p:blipFill>
          <a:blip r:embed="rId1"/>
          <a:stretch/>
        </p:blipFill>
        <p:spPr>
          <a:xfrm>
            <a:off x="1805040" y="-19080"/>
            <a:ext cx="8974080" cy="979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16000" y="349200"/>
          <a:ext cx="12155040" cy="9002520"/>
        </p:xfrm>
        <a:graphic>
          <a:graphicData uri="http://schemas.openxmlformats.org/drawingml/2006/table">
            <a:tbl>
              <a:tblPr/>
              <a:tblGrid>
                <a:gridCol w="3489480"/>
                <a:gridCol w="4332600"/>
                <a:gridCol w="4332960"/>
              </a:tblGrid>
              <a:tr h="180000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Criteri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PB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M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</a:tr>
              <a:tr h="180072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Relative Student- centeredn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tudent-cente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tudent-center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80036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Assess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tudents are assessed  according to their content knowledge and particip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This model is used to not assess student,but to identify their strength and intellige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80072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Ease of u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Eas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Eas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80072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Helvetica Light"/>
                        </a:rPr>
                        <a:t>The Organization of the cla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37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tudent work collaboratively in group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Students works in groups with either shared or mix intelligenc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